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32DF7-D7EE-4C75-BDB4-5E2FB9C8B8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DD245-3FB9-46D0-985E-FAD3943D12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829BA-03F2-440A-9288-CF1A5E96E0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2E87-978E-4845-B2C3-13B5AF75ED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7930F-C09C-47A0-A403-617EA7897C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647F8-761F-4A85-8462-7D2022D354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D545B-8801-4FC3-B857-9C20EE897C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AC5F-982E-4C04-90CC-33F4C91C24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6CD83-BDA3-4F08-A860-C0E3ECCAE4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1540-C52F-4D06-8923-CCA8F89EE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1E14-87A0-4740-83C4-770769B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D1FE-0A39-4547-A7D3-B15B87F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6A34-459C-46F1-8C5B-1FCAF0E8E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B6B3-67CD-47A9-AC2A-F463906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2DF4-8E97-4691-BFC6-25595E1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597C-73FD-4532-8CEB-796D73CB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209D-26BD-4DC2-924B-ED8E3162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F538-3FAF-41D5-8F4F-DCAA5E04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208B-9E99-4A44-8A3F-419C537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0E2A-47CE-4E69-8634-0E0BD287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6DEF-1633-4C3A-8216-92A1A20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3F9704-AB7F-4FBA-8F4E-CCB6B694661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34784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especies de animales donde ambos sexos sólo se diferencian por sus órganos sexuales. Se dice que carecen de 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tos animales son los conejos, los gat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hanquetes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34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3060720" y="3189240"/>
            <a:ext cx="27622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512640" y="3168720"/>
            <a:ext cx="276228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1511280" y="574344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68720" y="5786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975280" y="3686040"/>
            <a:ext cx="2541600" cy="106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5940360" y="5003640"/>
            <a:ext cx="2519280" cy="12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335640" y="459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335640" y="600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127620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otras especies, ambos sexos poseen diferencias en su aspecto externo aparte de sus órganos sexuales; se dice que son especies co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pecies con dimorfismo sexual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lagartijas, los leones, muchas aves, los seres human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079640" y="3600360"/>
            <a:ext cx="3960720" cy="23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219640" y="3600360"/>
            <a:ext cx="3075120" cy="211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20720" y="3600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419640" y="3240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00720" y="3240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272360" y="5327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6 Imagen" descr="mirlo_bd.jpg"/>
          <p:cNvPicPr/>
          <p:nvPr/>
        </p:nvPicPr>
        <p:blipFill>
          <a:blip r:embed="rId2"/>
          <a:stretch/>
        </p:blipFill>
        <p:spPr>
          <a:xfrm>
            <a:off x="4859280" y="3573360"/>
            <a:ext cx="403380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14 Imagen" descr="faisan_bd.jpg"/>
          <p:cNvPicPr/>
          <p:nvPr/>
        </p:nvPicPr>
        <p:blipFill>
          <a:blip r:embed="rId3"/>
          <a:stretch/>
        </p:blipFill>
        <p:spPr>
          <a:xfrm>
            <a:off x="3995640" y="549360"/>
            <a:ext cx="4875480" cy="2752560"/>
          </a:xfrm>
          <a:prstGeom prst="rect">
            <a:avLst/>
          </a:prstGeom>
          <a:ln w="0">
            <a:noFill/>
          </a:ln>
        </p:spPr>
      </p:pic>
      <p:pic>
        <p:nvPicPr>
          <p:cNvPr id="98" name="15 Imagen" descr="ciervo_bd.jpg"/>
          <p:cNvPicPr/>
          <p:nvPr/>
        </p:nvPicPr>
        <p:blipFill>
          <a:blip r:embed="rId4"/>
          <a:stretch/>
        </p:blipFill>
        <p:spPr>
          <a:xfrm>
            <a:off x="324000" y="2565360"/>
            <a:ext cx="4444920" cy="3406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11280" y="24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43280" y="2852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08720" y="9079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1640" y="141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364000" y="342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2:18Z</dcterms:modified>
  <cp:revision>46</cp:revision>
  <dc:subject/>
  <dc:title>Diapositiva 1</dc:title>
</cp:coreProperties>
</file>